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notesSlide2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1.png" ContentType="image/png"/>
  <Override PartName="/ppt/media/image20.png" ContentType="image/png"/>
  <Override PartName="/ppt/media/image2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13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11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5.jpeg" ContentType="image/jpeg"/>
  <Override PartName="/ppt/media/image26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2.png" ContentType="image/pn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F99AB0-2C60-4C57-820C-1F3968F531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3ABF61-9ADA-4C67-877E-72BAFDFE1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314AE-2DB3-4512-BBC4-1B675E850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23A94C-6411-450E-9B22-57C9F65B4E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9FCE9A-DB1D-4398-85FE-A8E414E077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E0214-2B87-497E-9ECF-FEF57C44E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95ABB-EF53-416A-8222-FD7B8BDE7C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4BB6F-BD59-4689-A034-702406A1ED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BEB55-C4C3-49AF-B333-A090B8E56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C08FD-C124-46D5-8E72-6E8AD691A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06ADDF-2EEE-4169-A60E-383670F47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09197-746F-4784-B293-43E038AF3E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D1E930-CBC4-470F-8567-007DB848D1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8CBB0A-75A2-442E-A132-7DCA27E9A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0B910-852D-4349-A02D-F7A7F0663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18A2E0-33F0-4A11-B5F1-F9574565DE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327CFE-E2D9-4E90-86CF-909CC80A76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324AB-A8ED-443A-B49F-F9E629EFD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5120A2-9628-41A8-9113-B563203237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6398E-D666-48C1-AAC9-C7C7EB60C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454A8-6926-4832-9B44-B6F5BDB24C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590-B018-422C-B688-327B51CA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BCF4-6D81-4F28-A27C-32421F27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8018-41FA-43FB-A9DF-7E878DCB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FF0-E881-445B-8533-EC0A09F0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B4CD-6632-4513-8BE0-C1F7E5E35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96C7-A95C-444B-9304-9994CEA5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A8B8-F2D5-4CFC-9CD2-E4E57AEF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4FDF-D8F6-4720-B3AC-F6678E49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A802-F63E-4989-9D22-C33544F6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AC76F-06EE-47A6-B595-1B9EBA7A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DF7F3-1E27-4DC6-9504-34B0683A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3B36-C94D-421A-BD9B-EFCAAAB5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02AC-179B-4F82-8B59-F32E54F0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6833-E278-46CD-B411-BE37F3F1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8224-A9F2-422F-8B93-35F90DAD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0D60-6E92-4F5E-9CB9-3945A8DE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A656-2335-4C0B-A891-2EB1F605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352E-6E95-48A9-8EB5-6A5781F6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C4E-4757-40DA-A008-495AAF592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99D1B-79A8-4F42-9739-FD0E7D0E7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A367-B33C-4274-BDC4-AD8B8606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B255F-EDB6-4FA5-B1AE-0675D8A4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E83DB-366F-4A09-B128-CC0514F9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0D2B3-6B1D-4596-923D-FC6A0A65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47395-CFFB-42FA-9603-33C61E90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33689-01DD-4C22-B52F-AEB1DF75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7CB1A-EBA9-4DB1-942B-DFAB11AC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B9D24-F825-46E9-B099-34C90A2D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F59F-6E19-4B5D-A9FF-E12F8ABA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19C68-0641-44CA-98A5-EC10CE41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4404-E169-45FC-953B-2035C54A8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2720" y="582480"/>
            <a:ext cx="79185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4ED-C453-48A9-AFB9-6F4BC8F5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4120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834880" y="204444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98892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4120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834880" y="4176360"/>
            <a:ext cx="23072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DC72D-9E3F-4876-B433-0B6B253F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1DA8-FEF1-44B7-8E83-6D841F94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1280" y="417636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9032-9D9D-491D-873D-741BAFB2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8892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1280" y="2044440"/>
            <a:ext cx="349704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88920" y="4176360"/>
            <a:ext cx="7166160" cy="19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4F0F-68DB-44CE-9524-388832E4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266212-5424-4C92-9C0D-3022A028B062}" type="datetime">
              <a:rPr b="0" lang="en-US" sz="1100" spc="-1" strike="noStrike">
                <a:solidFill>
                  <a:srgbClr val="1f497d"/>
                </a:solidFill>
                <a:latin typeface="Century Gothic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457476-BB2F-4D6B-857A-4702193F59DA}" type="slidenum">
              <a:rPr b="0" lang="en-US" sz="1400" spc="-1" strike="noStrike">
                <a:solidFill>
                  <a:srgbClr val="1f497d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BADB2-72D5-425B-B14E-6AA3704C36AE}" type="datetime">
              <a:rPr b="0" lang="en-US" sz="1100" spc="-1" strike="noStrike">
                <a:solidFill>
                  <a:srgbClr val="1f497d"/>
                </a:solidFill>
                <a:latin typeface="Century Gothic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09680" y="6275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28B172-124A-4DC5-8148-5CD4B9B59052}" type="slidenum">
              <a:rPr b="0" lang="en-US" sz="1400" spc="-1" strike="noStrike">
                <a:solidFill>
                  <a:srgbClr val="1f497d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1f4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1f4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1f4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 flipH="1">
            <a:off x="4572720" y="1693800"/>
            <a:ext cx="19080" cy="4389480"/>
          </a:xfrm>
          <a:prstGeom prst="rect">
            <a:avLst/>
          </a:prstGeom>
          <a:gradFill rotWithShape="0">
            <a:gsLst>
              <a:gs pos="0">
                <a:srgbClr val="17375e"/>
              </a:gs>
              <a:gs pos="100000">
                <a:srgbClr val="1f4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0350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336600">
              <a:spcBef>
                <a:spcPts val="550"/>
              </a:spcBef>
              <a:buClr>
                <a:srgbClr val="558ed5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1720800" indent="-349200">
              <a:spcBef>
                <a:spcPts val="55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1720800" indent="-349200">
              <a:spcBef>
                <a:spcPts val="550"/>
              </a:spcBef>
              <a:buClr>
                <a:srgbClr val="000000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75520"/>
            <a:ext cx="1600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6050E-9D28-4395-9161-9F8F620B36F1}" type="datetime">
              <a:rPr b="0" lang="en-US" sz="1100" spc="-1" strike="noStrike">
                <a:solidFill>
                  <a:srgbClr val="1f497d"/>
                </a:solidFill>
                <a:latin typeface="Century Gothic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2204640" y="6275520"/>
            <a:ext cx="564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8076960" y="6275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1f497d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789B7E-E506-4137-AAC4-545965D9526C}" type="slidenum">
              <a:rPr b="0" lang="en-US" sz="1400" spc="-1" strike="noStrike">
                <a:solidFill>
                  <a:srgbClr val="1f497d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diana.edu/~oso/animations/An6.html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6000" y="739800"/>
            <a:ext cx="851364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1f497d"/>
                </a:solidFill>
                <a:latin typeface="Century Gothic"/>
              </a:rPr>
              <a:t>   </a:t>
            </a:r>
            <a:r>
              <a:rPr b="1" lang="en-US" sz="10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Chapter 2 B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 Organic</a:t>
            </a:r>
            <a:br>
              <a:rPr sz="10000"/>
            </a:br>
            <a:r>
              <a:rPr b="1" lang="en-US" sz="10000" spc="-1" strike="noStrike">
                <a:solidFill>
                  <a:srgbClr val="000000"/>
                </a:solidFill>
                <a:latin typeface="Comic Sans MS"/>
                <a:ea typeface="Comic Sans MS"/>
              </a:rPr>
              <a:t>   Chemistry</a:t>
            </a:r>
            <a:endParaRPr b="0" lang="en-US" sz="100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06000" y="3504960"/>
            <a:ext cx="468324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entury Gothic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Dehydration Synthesi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38" name="Content Placeholder 3" descr="sucrosesyn.gif"/>
          <p:cNvPicPr/>
          <p:nvPr/>
        </p:nvPicPr>
        <p:blipFill>
          <a:blip r:embed="rId2"/>
          <a:srcRect l="-12412" t="0" r="-12412" b="0"/>
          <a:stretch/>
        </p:blipFill>
        <p:spPr>
          <a:xfrm>
            <a:off x="160200" y="1371600"/>
            <a:ext cx="8983800" cy="511668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085840" y="6488280"/>
            <a:ext cx="42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aff.jccc.net/pdecell/biochemistry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Hydrolysi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20570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How are organic molecules broken down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ydro – water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ys – to break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ydrolysis is “to break by adding water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Hydrolysi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43" name="Content Placeholder 7" descr="hydrolysis.jpg"/>
          <p:cNvPicPr/>
          <p:nvPr/>
        </p:nvPicPr>
        <p:blipFill>
          <a:blip r:embed="rId2"/>
          <a:srcRect l="-31457" t="0" r="-31457" b="0"/>
          <a:stretch/>
        </p:blipFill>
        <p:spPr>
          <a:xfrm>
            <a:off x="387360" y="1371600"/>
            <a:ext cx="8756640" cy="4987800"/>
          </a:xfrm>
          <a:prstGeom prst="rect">
            <a:avLst/>
          </a:prstGeom>
          <a:ln w="0">
            <a:noFill/>
          </a:ln>
        </p:spPr>
      </p:pic>
      <p:sp>
        <p:nvSpPr>
          <p:cNvPr id="244" name="TextBox 8"/>
          <p:cNvSpPr/>
          <p:nvPr/>
        </p:nvSpPr>
        <p:spPr>
          <a:xfrm>
            <a:off x="1041840" y="6359400"/>
            <a:ext cx="74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doyouknow.in/Articles/images/201111230226161476457.p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52280" y="304920"/>
            <a:ext cx="8991720" cy="79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Lipi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(fats, waxes, cholesterol, oil, phospholip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* made of fatty acids &amp;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* do not dissolve in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O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* contains most energy/ 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Lipid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lycerol Molecule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Glycerol (circled in red) and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3 Fatty Acid Chains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51" name="Picture 3" descr="glycerol.jpg"/>
          <p:cNvPicPr/>
          <p:nvPr/>
        </p:nvPicPr>
        <p:blipFill>
          <a:blip r:embed="rId2"/>
          <a:stretch/>
        </p:blipFill>
        <p:spPr>
          <a:xfrm>
            <a:off x="4695840" y="2044800"/>
            <a:ext cx="1428840" cy="1123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fat.jpg"/>
          <p:cNvPicPr/>
          <p:nvPr/>
        </p:nvPicPr>
        <p:blipFill>
          <a:blip r:embed="rId3"/>
          <a:stretch/>
        </p:blipFill>
        <p:spPr>
          <a:xfrm>
            <a:off x="5410080" y="3733920"/>
            <a:ext cx="3429000" cy="28652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5"/>
          <p:cNvSpPr/>
          <p:nvPr/>
        </p:nvSpPr>
        <p:spPr>
          <a:xfrm>
            <a:off x="3827520" y="3168720"/>
            <a:ext cx="43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iology.clc.uc.edu/graphics/bio104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21960" y="640080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iology.clc.uc.edu/graphics/bio104/fa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Rounded Rectangle 7"/>
          <p:cNvGrpSpPr/>
          <p:nvPr/>
        </p:nvGrpSpPr>
        <p:grpSpPr>
          <a:xfrm>
            <a:off x="5284800" y="3670200"/>
            <a:ext cx="1000080" cy="3151440"/>
            <a:chOff x="5284800" y="3670200"/>
            <a:chExt cx="1000080" cy="3151440"/>
          </a:xfrm>
        </p:grpSpPr>
        <p:pic>
          <p:nvPicPr>
            <p:cNvPr id="256" name="Rounded Rectangle 7" descr=""/>
            <p:cNvPicPr/>
            <p:nvPr/>
          </p:nvPicPr>
          <p:blipFill>
            <a:blip r:embed="rId4"/>
            <a:stretch/>
          </p:blipFill>
          <p:spPr>
            <a:xfrm>
              <a:off x="5284800" y="3670200"/>
              <a:ext cx="1000080" cy="31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446800" y="3770280"/>
              <a:ext cx="689040" cy="279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Lipid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59" name="Content Placeholder 3" descr="Bio-p48-Fig2-20.jpg"/>
          <p:cNvPicPr/>
          <p:nvPr/>
        </p:nvPicPr>
        <p:blipFill>
          <a:blip r:embed="rId2"/>
          <a:srcRect l="-59903" t="0" r="-59903" b="0"/>
          <a:stretch/>
        </p:blipFill>
        <p:spPr>
          <a:xfrm>
            <a:off x="2209680" y="1371600"/>
            <a:ext cx="9336240" cy="5318280"/>
          </a:xfrm>
          <a:prstGeom prst="rect">
            <a:avLst/>
          </a:prstGeom>
          <a:ln w="0">
            <a:noFill/>
          </a:ln>
        </p:spPr>
      </p:pic>
      <p:sp>
        <p:nvSpPr>
          <p:cNvPr id="260" name="TextBox 4"/>
          <p:cNvSpPr/>
          <p:nvPr/>
        </p:nvSpPr>
        <p:spPr>
          <a:xfrm>
            <a:off x="587880" y="1828800"/>
            <a:ext cx="3367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glycerol molec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ed to 3 fat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ch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457200" y="304920"/>
            <a:ext cx="838188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ipids can b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* saturated with 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olid at room te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x: crisco, butter, cholest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* unsatur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as C=C (double bonds)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liquid at room temperature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ex: olive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Saturated vs. Unsaturated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66" name="Content Placeholder 3" descr="fat.jpg"/>
          <p:cNvPicPr/>
          <p:nvPr/>
        </p:nvPicPr>
        <p:blipFill>
          <a:blip r:embed="rId2"/>
          <a:srcRect l="-23350" t="0" r="-23350" b="0"/>
          <a:stretch/>
        </p:blipFill>
        <p:spPr>
          <a:xfrm>
            <a:off x="0" y="1371600"/>
            <a:ext cx="8983800" cy="51166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4"/>
          <p:cNvSpPr/>
          <p:nvPr/>
        </p:nvSpPr>
        <p:spPr>
          <a:xfrm>
            <a:off x="2231640" y="6488280"/>
            <a:ext cx="492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biology.clc.uc.edu/graphics/bio104/fa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Oval 5"/>
          <p:cNvGrpSpPr/>
          <p:nvPr/>
        </p:nvGrpSpPr>
        <p:grpSpPr>
          <a:xfrm>
            <a:off x="5278320" y="4889520"/>
            <a:ext cx="1086120" cy="1011240"/>
            <a:chOff x="5278320" y="4889520"/>
            <a:chExt cx="1086120" cy="1011240"/>
          </a:xfrm>
        </p:grpSpPr>
        <p:pic>
          <p:nvPicPr>
            <p:cNvPr id="269" name="Oval 5" descr=""/>
            <p:cNvPicPr/>
            <p:nvPr/>
          </p:nvPicPr>
          <p:blipFill>
            <a:blip r:embed="rId3"/>
            <a:stretch/>
          </p:blipFill>
          <p:spPr>
            <a:xfrm>
              <a:off x="5278320" y="4889520"/>
              <a:ext cx="1086120" cy="101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532480" y="5064120"/>
              <a:ext cx="59364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600200" y="518148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9" descr="Image77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49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457200" y="304920"/>
            <a:ext cx="838188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hospho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ydrophobic ta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ydrophilic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7" descr="phospholipids"/>
          <p:cNvPicPr/>
          <p:nvPr/>
        </p:nvPicPr>
        <p:blipFill>
          <a:blip r:embed="rId2"/>
          <a:stretch/>
        </p:blipFill>
        <p:spPr>
          <a:xfrm>
            <a:off x="4038480" y="152280"/>
            <a:ext cx="5105520" cy="31878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lectur65"/>
          <p:cNvPicPr/>
          <p:nvPr/>
        </p:nvPicPr>
        <p:blipFill>
          <a:blip r:embed="rId3"/>
          <a:stretch/>
        </p:blipFill>
        <p:spPr>
          <a:xfrm>
            <a:off x="0" y="3676680"/>
            <a:ext cx="3219480" cy="31813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1" descr="cells"/>
          <p:cNvPicPr/>
          <p:nvPr/>
        </p:nvPicPr>
        <p:blipFill>
          <a:blip r:embed="rId4"/>
          <a:stretch/>
        </p:blipFill>
        <p:spPr>
          <a:xfrm>
            <a:off x="3505320" y="3581280"/>
            <a:ext cx="60768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What is Organic Chemistry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1676160"/>
            <a:ext cx="8839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iosynthesis: living things making substances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Molecules made from Carbon, but it usually has Carbon, Hydrogen, and Oxygen. 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2200"/>
              </a:spcBef>
              <a:buClr>
                <a:srgbClr val="eeece1"/>
              </a:buClr>
              <a:buSzPct val="9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arbon Dioxide is not an organic molecul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Phospholipid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84" name="Content Placeholder 5" descr="Bio-p49-Fig2-22.jpg"/>
          <p:cNvPicPr/>
          <p:nvPr/>
        </p:nvPicPr>
        <p:blipFill>
          <a:blip r:embed="rId2"/>
          <a:srcRect l="-91853" t="0" r="-91853" b="0"/>
          <a:stretch/>
        </p:blipFill>
        <p:spPr>
          <a:xfrm>
            <a:off x="-2286000" y="2103480"/>
            <a:ext cx="8346960" cy="4754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7" descr="Bio-p63-Fig3-9.jpg"/>
          <p:cNvPicPr/>
          <p:nvPr/>
        </p:nvPicPr>
        <p:blipFill>
          <a:blip r:embed="rId3"/>
          <a:stretch/>
        </p:blipFill>
        <p:spPr>
          <a:xfrm>
            <a:off x="3505320" y="3448080"/>
            <a:ext cx="5457600" cy="211464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3733920" y="2590920"/>
            <a:ext cx="459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Membrane is com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Phospholipid bi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457200" y="304920"/>
            <a:ext cx="8381880" cy="76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Prote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wide var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de of amino acid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ine                                                  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group                                                  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N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3     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CO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ino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0" descr="AminoAcidLG"/>
          <p:cNvPicPr/>
          <p:nvPr/>
        </p:nvPicPr>
        <p:blipFill>
          <a:blip r:embed="rId2"/>
          <a:stretch/>
        </p:blipFill>
        <p:spPr>
          <a:xfrm>
            <a:off x="2209680" y="2590920"/>
            <a:ext cx="4762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Building a protein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93" name="Content Placeholder 3" descr="400px-Peptidformationball.svg.png"/>
          <p:cNvPicPr/>
          <p:nvPr/>
        </p:nvPicPr>
        <p:blipFill>
          <a:blip r:embed="rId2"/>
          <a:srcRect l="-21979" t="0" r="-21979" b="0"/>
          <a:stretch/>
        </p:blipFill>
        <p:spPr>
          <a:xfrm>
            <a:off x="-573120" y="1676520"/>
            <a:ext cx="9717120" cy="52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Amino Acid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95" name="Content Placeholder 3" descr="aminoacids.gif"/>
          <p:cNvPicPr/>
          <p:nvPr/>
        </p:nvPicPr>
        <p:blipFill>
          <a:blip r:embed="rId2"/>
          <a:srcRect l="-37343" t="0" r="-37343" b="0"/>
          <a:stretch/>
        </p:blipFill>
        <p:spPr>
          <a:xfrm>
            <a:off x="380880" y="1371600"/>
            <a:ext cx="9058320" cy="5159520"/>
          </a:xfrm>
          <a:prstGeom prst="rect">
            <a:avLst/>
          </a:prstGeom>
          <a:ln w="0">
            <a:noFill/>
          </a:ln>
        </p:spPr>
      </p:pic>
      <p:sp>
        <p:nvSpPr>
          <p:cNvPr id="296" name="TextBox 5"/>
          <p:cNvSpPr/>
          <p:nvPr/>
        </p:nvSpPr>
        <p:spPr>
          <a:xfrm>
            <a:off x="527040" y="6488280"/>
            <a:ext cx="795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jms2.umdnj.edu/biochweb/education/bioweb/PreK2010/aminoacids.g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457200" y="304920"/>
            <a:ext cx="838188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Pro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mino acids linked by peptide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rms polypeptide cha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ritical for proteins to be func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hain fold into 3D protein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quence of amino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termines the pro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Bio-p51-Fig2-25a.jpg"/>
          <p:cNvPicPr/>
          <p:nvPr/>
        </p:nvPicPr>
        <p:blipFill>
          <a:blip r:embed="rId2"/>
          <a:stretch/>
        </p:blipFill>
        <p:spPr>
          <a:xfrm>
            <a:off x="6019920" y="1752480"/>
            <a:ext cx="2349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Polypeptide Chain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03" name="Content Placeholder 3" descr="tumblr_m3tiu5FESZ1r9duat.png"/>
          <p:cNvPicPr/>
          <p:nvPr/>
        </p:nvPicPr>
        <p:blipFill>
          <a:blip r:embed="rId2"/>
          <a:srcRect l="-3805" t="0" r="-3805" b="0"/>
          <a:stretch/>
        </p:blipFill>
        <p:spPr>
          <a:xfrm>
            <a:off x="-447840" y="1676520"/>
            <a:ext cx="95918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457200" y="3049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hemoglbn"/>
          <p:cNvPicPr/>
          <p:nvPr/>
        </p:nvPicPr>
        <p:blipFill>
          <a:blip r:embed="rId2"/>
          <a:stretch/>
        </p:blipFill>
        <p:spPr>
          <a:xfrm>
            <a:off x="1185840" y="719280"/>
            <a:ext cx="6772320" cy="5419440"/>
          </a:xfrm>
          <a:prstGeom prst="rect">
            <a:avLst/>
          </a:prstGeom>
          <a:ln w="0">
            <a:noFill/>
          </a:ln>
        </p:spPr>
      </p:pic>
      <p:sp>
        <p:nvSpPr>
          <p:cNvPr id="309" name="Text Box 8"/>
          <p:cNvSpPr/>
          <p:nvPr/>
        </p:nvSpPr>
        <p:spPr>
          <a:xfrm>
            <a:off x="2438280" y="62485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Hemoglo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Ribosome 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11" name="Content Placeholder 3" descr="tumblr_m3tiv4YgRX1r9duat.jpg"/>
          <p:cNvPicPr/>
          <p:nvPr/>
        </p:nvPicPr>
        <p:blipFill>
          <a:blip r:embed="rId2"/>
          <a:srcRect l="-37780" t="0" r="-37780" b="0"/>
          <a:stretch/>
        </p:blipFill>
        <p:spPr>
          <a:xfrm>
            <a:off x="0" y="1371600"/>
            <a:ext cx="9283680" cy="5060880"/>
          </a:xfrm>
          <a:prstGeom prst="rect">
            <a:avLst/>
          </a:prstGeom>
          <a:ln w="0">
            <a:noFill/>
          </a:ln>
        </p:spPr>
      </p:pic>
      <p:sp>
        <p:nvSpPr>
          <p:cNvPr id="312" name="TextBox 5"/>
          <p:cNvSpPr/>
          <p:nvPr/>
        </p:nvSpPr>
        <p:spPr>
          <a:xfrm>
            <a:off x="1905120" y="662940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6"/>
          <p:cNvSpPr/>
          <p:nvPr/>
        </p:nvSpPr>
        <p:spPr>
          <a:xfrm>
            <a:off x="1933200" y="6432480"/>
            <a:ext cx="57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media.tumblr.com/tumblr_m3tiv4YgRX1r9duat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457200" y="380880"/>
            <a:ext cx="8686800" cy="78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Enzyme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= biological cataly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nzymes are proteins!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nzymes allow reactions (rxn) to occur in living things with out dangerous energy lev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Enzymes usually end in –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Amy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ata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rot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Lipa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Cellu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Pepsin (but not always end in –a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1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1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8" name="Rectangle 3"/>
          <p:cNvSpPr/>
          <p:nvPr/>
        </p:nvSpPr>
        <p:spPr>
          <a:xfrm>
            <a:off x="380880" y="106200"/>
            <a:ext cx="899172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Enzymes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1) prote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2) highly specif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3) require ener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4) may require coenzym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5) affected by heat, radiation, pH, chemic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6) often work in ser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7) have active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enzymes"/>
          <p:cNvPicPr/>
          <p:nvPr/>
        </p:nvPicPr>
        <p:blipFill>
          <a:blip r:embed="rId2"/>
          <a:stretch/>
        </p:blipFill>
        <p:spPr>
          <a:xfrm>
            <a:off x="5842080" y="0"/>
            <a:ext cx="33019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155520" y="0"/>
            <a:ext cx="8686800" cy="82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Organ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c compound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ontain Carb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n be made by an </a:t>
            </a:r>
            <a:r>
              <a:rPr b="1" lang="en-US" sz="3600" spc="-1" strike="noStrike">
                <a:solidFill>
                  <a:srgbClr val="ff6600"/>
                </a:solidFill>
                <a:latin typeface="Verdana"/>
              </a:rPr>
              <a:t>organ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rbon has 4 valence e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n bond w/ up to 4 ato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n form single, double, triple 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n form chains &amp; r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Enzyme Activity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icture 6"/>
          <p:cNvSpPr/>
          <p:nvPr/>
        </p:nvSpPr>
        <p:spPr>
          <a:xfrm>
            <a:off x="4114800" y="1905120"/>
            <a:ext cx="3914640" cy="28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1600200" y="5181480"/>
            <a:ext cx="70102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Lego Enzyme Animation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7" descr="Bio-p39-Fig2-12.jpg"/>
          <p:cNvPicPr/>
          <p:nvPr/>
        </p:nvPicPr>
        <p:blipFill>
          <a:blip r:embed="rId3"/>
          <a:stretch/>
        </p:blipFill>
        <p:spPr>
          <a:xfrm>
            <a:off x="155520" y="2751120"/>
            <a:ext cx="891216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81bd"/>
                </a:solidFill>
                <a:latin typeface="Century Gothic"/>
              </a:rPr>
              <a:t>Enzyme lowers Activation Energy</a:t>
            </a:r>
            <a:endParaRPr b="0" lang="en-US" sz="36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29" name="Content Placeholder 3" descr="EnzymeActivationEnergy2.gif"/>
          <p:cNvPicPr/>
          <p:nvPr/>
        </p:nvPicPr>
        <p:blipFill>
          <a:blip r:embed="rId2"/>
          <a:srcRect l="-14697" t="0" r="-14697" b="0"/>
          <a:stretch/>
        </p:blipFill>
        <p:spPr>
          <a:xfrm>
            <a:off x="0" y="1143000"/>
            <a:ext cx="9231480" cy="525780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636120" y="6550200"/>
            <a:ext cx="744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njms2.umdnj.edu/biochweb/education/bioweb/PreK2010/EnzymeActivationEnergy2.g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Nucleic Acids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32" name="Content Placeholder 4" descr="UGENWebsitepicturesTopStoriesJan2011Jan7_2010_21410201_ManLooksAtDNA_ArtificialProteinsSustainLife8375147852.jpg"/>
          <p:cNvPicPr/>
          <p:nvPr/>
        </p:nvPicPr>
        <p:blipFill>
          <a:blip r:embed="rId2"/>
          <a:srcRect l="-7585" t="0" r="-7585" b="0"/>
          <a:stretch/>
        </p:blipFill>
        <p:spPr>
          <a:xfrm>
            <a:off x="-352440" y="1371600"/>
            <a:ext cx="9632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57200" y="304920"/>
            <a:ext cx="8381880" cy="58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Nucleic Acids (DNA &amp; R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nd in the 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aterial of heredity = ge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tructure determ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Watson &amp; Crick, 19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hey stole it from Rosalind Strick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blueprint for making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380880" y="380880"/>
            <a:ext cx="8382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NA = double chain of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1) sugar = deoxyrib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) phosph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) 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16883801"/>
          <p:cNvPicPr/>
          <p:nvPr/>
        </p:nvPicPr>
        <p:blipFill>
          <a:blip r:embed="rId2"/>
          <a:stretch/>
        </p:blipFill>
        <p:spPr>
          <a:xfrm>
            <a:off x="609480" y="3152880"/>
            <a:ext cx="3810240" cy="37051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9" descr="DNA-DoubleHelix-ImgLibPDB-1bna_prepi_4"/>
          <p:cNvPicPr/>
          <p:nvPr/>
        </p:nvPicPr>
        <p:blipFill>
          <a:blip r:embed="rId3"/>
          <a:stretch/>
        </p:blipFill>
        <p:spPr>
          <a:xfrm>
            <a:off x="5622840" y="1066680"/>
            <a:ext cx="3521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380880" y="1371600"/>
            <a:ext cx="4267440" cy="45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entury Gothic"/>
              </a:rPr>
              <a:t>DNA re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king 2 new DNA molecules from an ol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Bio-p53-Fig2-29.jpg"/>
          <p:cNvPicPr/>
          <p:nvPr/>
        </p:nvPicPr>
        <p:blipFill>
          <a:blip r:embed="rId2"/>
          <a:stretch/>
        </p:blipFill>
        <p:spPr>
          <a:xfrm>
            <a:off x="4648320" y="138240"/>
            <a:ext cx="365760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55520" y="380880"/>
            <a:ext cx="35100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uracil instead of thym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ibose instead of deoxyrib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6" descr="Bio-p54-Fig2-30.jpg"/>
          <p:cNvPicPr/>
          <p:nvPr/>
        </p:nvPicPr>
        <p:blipFill>
          <a:blip r:embed="rId2"/>
          <a:stretch/>
        </p:blipFill>
        <p:spPr>
          <a:xfrm>
            <a:off x="3967200" y="304920"/>
            <a:ext cx="5176800" cy="65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Not too painful, was it?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54" name="Content Placeholder 3" descr="perfectly-timed-sports-photos-13.jpg"/>
          <p:cNvPicPr/>
          <p:nvPr/>
        </p:nvPicPr>
        <p:blipFill>
          <a:blip r:embed="rId2"/>
          <a:srcRect l="-16271" t="0" r="-16271" b="0"/>
          <a:stretch/>
        </p:blipFill>
        <p:spPr>
          <a:xfrm>
            <a:off x="0" y="1649520"/>
            <a:ext cx="9144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" descr=""/>
          <p:cNvPicPr/>
          <p:nvPr/>
        </p:nvPicPr>
        <p:blipFill>
          <a:blip r:embed="rId2"/>
          <a:stretch/>
        </p:blipFill>
        <p:spPr>
          <a:xfrm>
            <a:off x="988920" y="2044800"/>
            <a:ext cx="7240680" cy="4676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We have knocked this chapter out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Do I have bad breath??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358" name="Picture 3" descr=""/>
          <p:cNvPicPr/>
          <p:nvPr/>
        </p:nvPicPr>
        <p:blipFill>
          <a:blip r:embed="rId2"/>
          <a:stretch/>
        </p:blipFill>
        <p:spPr>
          <a:xfrm>
            <a:off x="1143000" y="1523880"/>
            <a:ext cx="6759720" cy="47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Carbon – the building block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pic>
        <p:nvPicPr>
          <p:cNvPr id="218" name="Content Placeholder 3" descr="Bio-p47-Fig2-17.jpg"/>
          <p:cNvPicPr/>
          <p:nvPr/>
        </p:nvPicPr>
        <p:blipFill>
          <a:blip r:embed="rId2"/>
          <a:srcRect l="-104911" t="0" r="-104911" b="0"/>
          <a:stretch/>
        </p:blipFill>
        <p:spPr>
          <a:xfrm>
            <a:off x="612720" y="1371600"/>
            <a:ext cx="83469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457200" y="228600"/>
            <a:ext cx="8686800" cy="71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4 kinds of Organic Comp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arbohyd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Lip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ote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ucleic ac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739800"/>
            <a:ext cx="8820000" cy="27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ts val="10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1f497d"/>
                </a:solidFill>
                <a:latin typeface="Comic Sans MS"/>
                <a:ea typeface="Comic Sans MS"/>
              </a:rPr>
              <a:t>Carbohydrates</a:t>
            </a:r>
            <a:endParaRPr b="0" lang="en-US" sz="100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306000" y="3504960"/>
            <a:ext cx="754236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81bd"/>
                </a:solidFill>
                <a:latin typeface="Century Gothic"/>
              </a:rPr>
              <a:t>CH</a:t>
            </a:r>
            <a:r>
              <a:rPr b="0" lang="en-US" sz="4400" spc="-1" strike="noStrike" baseline="-25000">
                <a:solidFill>
                  <a:srgbClr val="4f81bd"/>
                </a:solidFill>
                <a:latin typeface="Century Gothic"/>
              </a:rPr>
              <a:t>2</a:t>
            </a:r>
            <a:r>
              <a:rPr b="0" lang="en-US" sz="4400" spc="-1" strike="noStrike">
                <a:solidFill>
                  <a:srgbClr val="4f81bd"/>
                </a:solidFill>
                <a:latin typeface="Century Gothic"/>
              </a:rPr>
              <a:t>O - Hydrated Carb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457200" y="304920"/>
            <a:ext cx="8381880" cy="9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arbohydrates  =  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C(O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)      hydrated Carb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3 types of simple suga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Century Gothic"/>
              </a:rPr>
              <a:t>1. monosaccharides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: ribose, glucose, fruct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ff6600"/>
                </a:solidFill>
                <a:latin typeface="Century Gothic"/>
              </a:rPr>
              <a:t>2.  disacchari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: sucrose, maltose, lact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3000" spc="-1" strike="noStrike">
                <a:solidFill>
                  <a:srgbClr val="ff6600"/>
                </a:solidFill>
                <a:latin typeface="Century Gothic"/>
              </a:rPr>
              <a:t>3.  polysacchari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ex: starch, glycogen, cellul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289548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457200" y="304920"/>
            <a:ext cx="8686800" cy="81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Starch</a:t>
            </a: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 energy source stored by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Glyc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an energy storage molecule in hu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Cellulo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makes plants st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isn’t digestible to most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oughage (fiber) in d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12720" y="582480"/>
            <a:ext cx="791856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f81bd"/>
                </a:solidFill>
                <a:latin typeface="Century Gothic"/>
              </a:rPr>
              <a:t>Dehydration Synthesis </a:t>
            </a:r>
            <a:endParaRPr b="0" lang="en-US" sz="4200" spc="-1" strike="noStrike">
              <a:solidFill>
                <a:srgbClr val="4f81bd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88920" y="2044440"/>
            <a:ext cx="7166160" cy="40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80880" y="380880"/>
            <a:ext cx="8991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460440" y="2395440"/>
            <a:ext cx="83818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How are organic molecules m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hydration – remov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ynthesis – to m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Dehydration Synthesis is “to make by 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removing water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20:41:16Z</dcterms:created>
  <dc:creator>Jason Cobb</dc:creator>
  <dc:description/>
  <dc:language>en-US</dc:language>
  <cp:lastModifiedBy>Jason Cobb</cp:lastModifiedBy>
  <dcterms:modified xsi:type="dcterms:W3CDTF">2012-10-01T11:38:43Z</dcterms:modified>
  <cp:revision>15</cp:revision>
  <dc:subject/>
  <dc:title>Chapter 2 B Organic Chemistry</dc:title>
</cp:coreProperties>
</file>